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FC69-E857-4F57-B4FB-A2A6B6D12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3C9F-FB29-4E7B-BE5A-9FFC09C1AEE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549C-B331-40C8-9339-D50D1C56C09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8260-FCA4-4099-9CD5-1B8E27162F2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A435-A496-447D-A980-DABA8AE83F2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A0C8-1908-480B-BB29-A8E932A123C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9930-3FAD-4A39-8223-81786A6A80B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F558-1288-4EA2-9595-C7D1F8997D9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9444-0FC6-4F53-8D1A-E9EC52FC23F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92D3-5548-43F7-9236-85A77B02774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A646-D22E-4736-976B-2DE788926B7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F40F-954F-46DA-A8AC-66934C4425D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C8B7-A37C-4B19-ACAD-4193A8D61B9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A7AA-72BC-48A3-BF97-78D339C4C11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47C8-17D6-43AD-9A96-B1917F9C184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6BAA-96E0-49DB-8A70-F9378F9C56C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F2C6-B306-46E9-8A32-9E4BF790C8E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D095-6417-4C6D-A28B-E79CDC653C9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1D94-C4F7-40C6-ADFC-DA3C6E761B3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4693-5BA6-438D-868A-EF1C7E9C273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0350-0DC4-4B64-98A7-23436173762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61E4-F680-413A-888B-13A437DE51F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D616-5179-4A66-BA27-1FA15469D48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C6F5-4AB8-4064-AEEA-2611BACBAF7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C2E3-7024-4A4C-B40A-CD8C3BC4894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B5C7-9503-4482-8B1A-CAAFFEF0B57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19CD-114D-4B12-9624-DEF8DB67CB4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A8A6-31A5-4D7E-BE0C-1BB6C262EA4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6305-4882-4A94-A5B2-9CC260AC1E2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8408-0D14-4B6E-B376-0ADA8B2D46F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95F9-08A2-42F7-BFC3-D18A6F04F54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3694-FD2F-411F-8ED5-61CEA6F4ECC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A74C-3458-44B4-8EA5-D03137889C5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84E7-194C-49F7-AC07-BFBDB18CD1D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72C2-455C-4134-A664-733F2C56205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FE5E-22E4-4436-BECE-AA544F82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217-79AA-43EA-B83E-E54359AF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6518-14F9-4B23-A13C-643960E7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B1A5-67D6-464E-8075-2BCFCAF3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6E84-E351-4455-9159-4AB04E46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6FCC-F949-4C76-A649-968C6BDE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D702-3ADE-4210-A692-EA5ABD63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8FB6-AB95-4EC5-8B30-3038651C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DB27-A6F1-4BDE-9D90-4F5D1418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6785-C035-4E30-A576-336C7EA0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A28E-70CB-4334-98A2-192D12AB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B02-C4C5-4101-A5F2-6117EBC9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CD73-806D-4CCE-AF66-EC9E8065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9A8C-6208-486C-8F6A-42A0A967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5CB1-A7D8-4D64-88D7-45953D4C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A9AA-E2C8-4300-9C36-F20B38D1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C8E5-279C-4666-84A3-643D9B08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15513-81A8-4188-8298-EE0215EE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4725F-7237-45F9-BB2D-18E43A6F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2D14D-B02C-4E02-9AC0-68DE27FA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D95E4-5270-413D-B250-627EB92C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2C5A8-055D-4BE2-BFEF-B0270671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E69-ED3E-4050-8A1A-0D496342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12003-C9C9-4543-BC29-C2B34B08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138DA-5230-4817-8811-8BE00E12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7EB4D-40A6-4842-B354-45D04716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CEBE6-D852-4217-B4C4-0C4B1521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83440-23FB-46C6-9804-BD042463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E4F4D-A449-41E5-ABCF-FF737C47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7AA1A-AC3D-42AE-A9C7-22C15F2A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186-7BB8-47E3-AA1E-88B8E967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7A1-2C11-41E6-A51C-3DCE71E6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779-5DA9-40FE-ADB5-B0B1CB91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899-C68D-4B4A-983A-C7A8DE5E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0263-128C-410E-86DF-8A5AAB34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E64-6286-49BB-8757-890DA4F3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5DAE-B13B-4843-8D5E-E0373CE3538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E3C1-CC8C-4E76-92C1-20E8DAD06CA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95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7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49F4-9BA1-4A9C-9A32-43AD699148F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Times New Roman"/>
              </a:rPr>
              <a:t>ХИДРОТЕРАПИЈ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66"/>
                </a:solidFill>
                <a:latin typeface="Times New Roman"/>
              </a:rPr>
              <a:t>Медицински</a:t>
            </a:r>
            <a:r>
              <a:rPr b="0" lang="sr-Latn-CS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6666"/>
                </a:solidFill>
                <a:latin typeface="Times New Roman"/>
              </a:rPr>
              <a:t>факултет</a:t>
            </a:r>
            <a:r>
              <a:rPr b="0" lang="sr-Latn-CS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6666"/>
                </a:solidFill>
                <a:latin typeface="Times New Roman"/>
              </a:rPr>
              <a:t>Крагујевац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Биофизич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механичко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дејст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хидростатск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итиса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ажње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ериферн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енск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лимфн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уд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већа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итиск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централн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рвоток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          (“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птереће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рц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”)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ијафрагм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грудн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ш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&gt;отежа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нспирију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лакша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експирију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б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тисак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од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(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Архимедов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зако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ц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тпор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од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Биофизич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ермичко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дејст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ефикасн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нвективн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редство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механичко дејст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ејство притиска и потис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хемијско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дејст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имен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атер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астворљив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од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ежина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ела при потапању у воду</a:t>
            </a:r>
            <a:br>
              <a:rPr sz="3600"/>
            </a:br>
            <a:r>
              <a:rPr b="1" lang="sr-Latn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(Harrison,Bulstrod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ушкарци              же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7                           8%                     8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r 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hoideus         35%                    28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IAS                       54%                     47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Физиолош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рвни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судови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ож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азодилата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ВС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ул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фреквенција,ударни волумен промена периферног отпора протицању крв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ЦНС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Н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аздражљив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проводљив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П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ону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нтрактилн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Р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брзи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уби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исањ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рвн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слик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– Er, Hgb, 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бубрези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а диурезу топле повећавај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метаболиза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ксидативн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оцес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Физиолош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топл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азодилатац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црвенил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ж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азоконстрикц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нутрашњ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рга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наш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антагонистичк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днос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ж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(Daster Morat) </a:t>
            </a:r>
            <a:r>
              <a:rPr b="0" lang="sr-CS" sz="2800" spc="-1" strike="noStrike">
                <a:solidFill>
                  <a:srgbClr val="ff3300"/>
                </a:solidFill>
                <a:latin typeface="Times New Roman"/>
              </a:rPr>
              <a:t>изузев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3300"/>
                </a:solidFill>
                <a:latin typeface="Times New Roman"/>
              </a:rPr>
              <a:t>мозга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ff3300"/>
                </a:solidFill>
                <a:latin typeface="Times New Roman"/>
              </a:rPr>
              <a:t>бубрега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33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3300"/>
                </a:solidFill>
                <a:latin typeface="Times New Roman"/>
              </a:rPr>
              <a:t>слези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Физиолош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топл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раткотрајн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опл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роцедур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брза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рчан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ад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одубљу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иса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дуготрајн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опл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роцедур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зази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брзан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вршн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иса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Физиолош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топл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раткотрајн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роцедур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већа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адражљив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ер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ишић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дуготрајн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роцедур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мању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ону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ишић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алф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пастичн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мању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ону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спора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ЦН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зази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ром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нертн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ад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отивац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Физиолош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лад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раткотрајн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зази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вофаз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еакци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мање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фреквенци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рц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кок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ул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убљ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иса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већа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етаболиз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већ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ону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П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онизир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већ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ад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м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пособн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Физиолошко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о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лад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дуготрајн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зази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рофаз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еакци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с (парализа вазоконстриктора и слабљење тонуса к.с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мању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адражљив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оводљив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ер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&gt;аналгетск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пазмолитичк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елова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спора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рча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фреквенциј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спора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етаболиза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нтрола бола хидротерапијо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јство на периферне механорецепторе смањује улаз кроз  ,,врата,,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ањују ТТ,а тиме и оптерећење на зглобов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апиј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-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финициј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Хидротерап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дразуме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пољ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име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од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циљ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лечењ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једа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д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ајстариј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идо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лечењ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ефикаса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азноврста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года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з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мбинова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озира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јефти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огућ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анредни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слови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идротермална</a:t>
            </a:r>
            <a:r>
              <a:rPr b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кал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о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Cordes-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Rectangle 46"/>
          <p:cNvSpPr/>
          <p:nvPr/>
        </p:nvSpPr>
        <p:spPr>
          <a:xfrm>
            <a:off x="0" y="60958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France YU"/>
                <a:ea typeface="Times New Roman"/>
              </a:rPr>
              <a:t> 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2438280"/>
          <a:ext cx="8686800" cy="4195800"/>
        </p:xfrm>
        <a:graphic>
          <a:graphicData uri="http://schemas.openxmlformats.org/drawingml/2006/table">
            <a:tbl>
              <a:tblPr/>
              <a:tblGrid>
                <a:gridCol w="1106640"/>
                <a:gridCol w="1357200"/>
                <a:gridCol w="1574640"/>
                <a:gridCol w="1600200"/>
                <a:gridCol w="1295640"/>
                <a:gridCol w="17524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up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ladna diferentna zo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is oseća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iferentna zo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pla diferentna zo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is oseća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4-30</a:t>
                      </a:r>
                      <a:r>
                        <a:rPr b="1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vež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6-38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pl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-25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lad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8-40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rlo topl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-12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prijatno hlad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4 – 36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º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2-44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rel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-6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podnošljivo hlad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4-46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prijatno vrel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-0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de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6-48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podnošljivo vrel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озирањ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о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Cordes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ап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ферентној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ператур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ж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а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ти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V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тепе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москал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ап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зир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ути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I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тепе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москал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кундам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дротерапијска</a:t>
            </a:r>
            <a:r>
              <a:rPr b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еакција</a:t>
            </a:r>
            <a:r>
              <a:rPr b="1" lang="en-GB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о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Baruch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куп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вих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фекат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јих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лази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јством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довољавајућ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терапијск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к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фект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кц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ацијент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сећ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з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б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ањи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ем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л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ршин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пликаци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гатив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кц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з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вокотањ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јаноз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крати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ем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ршин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пликаци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з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ротирањ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нека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кину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терапи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Лечење опекоти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хидрацијом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змекшавањем и дебридманом нектротичног ткива&gt;одвајање и смањ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ње броја бактер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ак и топлота побоњшавају циркулацију и трофику и поуспешују зараста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нтисптични раствори,вежбе у вод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вежи графтови(до 7 дана) су контраиндика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дела</a:t>
            </a:r>
            <a:r>
              <a:rPr b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идротерапијских</a:t>
            </a:r>
            <a:r>
              <a:rPr b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цедура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дротермалне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дуре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дрокинетичке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дур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мпресе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логе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ушев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ливања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исерна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д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љања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водна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саж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кинезитерапиј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аковањ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дрохемијске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дуре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дроелектричне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дур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мпорна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а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алванска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д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орова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а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етвороћелијске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ана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одел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апијских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роцед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</a:rPr>
              <a:t>ОПШТ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припремно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излагањ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упањ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уширањ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поводн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масаж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омбинован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</a:rPr>
              <a:t>ЛОКАЛН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блог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иригациј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лиз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локал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упк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озирањ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апиј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јачин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надража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ермичког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еханичког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хемијског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рајањ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роцедур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овршин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е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Контраиндикациј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з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апиј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малигнит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декомпензациј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срц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, H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плућн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бољењ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ахексиј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рудноћ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дијареј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инконтиненциј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епилепсиј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стањ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посл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CV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заразн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бољењ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дерматитис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дерматоз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псоријаз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екц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хеморагич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дијатез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ране,инфекциј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Хидротермалне</a:t>
            </a:r>
            <a:r>
              <a:rPr b="1" lang="en-GB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мпре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лог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јједноставни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термал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пл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јпознатиј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iesnitz ov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л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ан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л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ј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крив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колик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ојев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в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кани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преч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нтакт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здух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кац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нтуз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сторз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к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фламаторн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арингитис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хеитис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ронхитис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..)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ливањ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ж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ит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окалн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пшт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ператур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20-25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ањ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3-5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ж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фротир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к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црвен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ај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л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кр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ед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мор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ује тонизирајућ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идротермалне 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опште,полукупке и локалне (различит П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ане купке,ароматичне,са гасови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упк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з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топал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д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еуматск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хроничн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сттрауматск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тањ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ехлад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боло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алој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арлиц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...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рућ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.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д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нтуз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исторз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ток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...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хлад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апиј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-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историја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јстариј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исан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вор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сопотамија, Индија, К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пократ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460-377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иш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мено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г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ечи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тоц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лцераци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ихтоз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фекци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але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терапиј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ечи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имск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адијатор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insent Priesnitz (1799-185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мал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рљањ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лажни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ешкир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л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укавиц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зати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уви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ешкир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5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уп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аковањ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-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у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лаж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мал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г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и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пшт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окал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ак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дражај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уж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5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мереног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овањ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0-30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ферент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епратур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г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а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уж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30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сле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пштих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и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требан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мор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јмањ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0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мал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изменичне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контрасне,васкуларна вежба)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изменичн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пликовањ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1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)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пл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4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)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ућ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5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ут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ној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ут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5-7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ут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кац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р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ифер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ркулац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уматизам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мрзли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сттрауматск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тањ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ма и консензуално дејство.Не код срчаних болесника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auffeov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четн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35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6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&gt;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степен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ећав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к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0-12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42-43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ректно настаје вазодилатација и обилно знојењ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мал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аковањ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разумев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вијањ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л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л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ређен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гмент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кр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аршаве,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ј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тходн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топ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н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сцеде&gt;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зоконстрикци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ј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брз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ењу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зодилатациј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у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дативн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след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плеторн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овањ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НС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б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ифер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зодилатациј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овањ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грејан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здух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ђ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кр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аршав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л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вршетк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нзитивних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ра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ровањ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суств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ханичких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дражај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ж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рист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д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порних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саница,климактеричних,нервоз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уготрајна: код гојазности, интоксикација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.Хидрокинетичк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ушев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дстављај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смерен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лаз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 сегмент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л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ређени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к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ређен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ператур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финисани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лаз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ханичк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дражај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д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ме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уш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сновн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љ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мичк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кундаран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ме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ај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нос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и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рнут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м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ператур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20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)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хлад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30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)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пл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над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).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м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к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иски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ком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т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соки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к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к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т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м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лик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лаз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трујн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ркуларн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ишн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уш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кинетичк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Шкотски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уш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2-3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ат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2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3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астојањ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30-3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изменично 38-42С,30-60 сек,па 15-20 С 15 до 30 сек. што се понавња 4-5 пута.Пр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вак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едеће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тма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 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ању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20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врш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нергични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љање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3-5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идрокинетичке 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Шаркоов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Charkot)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уш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лаз воде под р 1-3 Ва,са 2-3 м удаље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дња,па бочна,па предње стране тела,густим и растреситим млазом.У почетку 30-32,после 5-6 процедура 20 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е 3-5 мин,завршава се енергичним трљањем преко сувог чарша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ази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ак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перемиј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кинети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</a:rPr>
              <a:t>ч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е</a:t>
            </a:r>
            <a:r>
              <a:rPr b="1" lang="en-GB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исерна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д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тложн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 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ферентн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ператур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, ваздух 1-2 Бара пропушта се кроз решетку, дражи механо и терморецепторе.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д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масаж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у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налгетск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дативно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ин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жу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жиљк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ластичним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кац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р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ифер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ркулац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нтрактур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ред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МН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жиљц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идрокинетичке 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водна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саж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дстављ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лаз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ферент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епратур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ређени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ко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ј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д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л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азен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смерав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м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олело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гмент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л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к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ставак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ра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лазниц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ж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ња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ак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 растојање.Попречно-на мишиће,кости и зглобове,косо на кожу и поткожно ткиво.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вод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ифери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нтр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во проксимални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0-15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004760" y="938160"/>
            <a:ext cx="71344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 периоду развоја Римског царства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</a:t>
            </a:r>
            <a:r>
              <a:rPr b="0" lang="sr-C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</a:t>
            </a:r>
            <a:r>
              <a:rPr b="0" lang="en-GB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јвеће изграђено купатило из тог доба налази се у Риму (Каракалине терме),  на 14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a </a:t>
            </a:r>
            <a:r>
              <a:rPr b="0" lang="en-GB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 вртовима, стадионима, зеленим површинама</a:t>
            </a:r>
            <a:r>
              <a:rPr b="0" lang="sr-C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М</a:t>
            </a:r>
            <a:r>
              <a:rPr b="0" lang="en-GB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гло је да прими 3200 људи. За време Римског царства изграђено је 900 купатила, а у наслеђу су оставили бање: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ishi (Aquae Calidae), Bat (Aquae Sulis), Visbaden  (Aquae Mattiacae)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кинети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</a:rPr>
              <a:t>ч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е</a:t>
            </a:r>
            <a:r>
              <a:rPr b="1" lang="en-GB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кинезитерапиј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гра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ежб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рхимедов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ко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могућ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вође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крет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шић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наг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довољ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в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ператур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ању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паза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прављ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ркулациј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сихолошк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фека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звоље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слонац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идрокинезитерапиј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ећање снаге и издржљивости мишић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билизација зглоб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ањење спастиците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бољшање баланса и координац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дриоваскуларно и респираторно кондиционира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лакса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ањење бола,спазма и от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абардов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ан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6" name="Picture 4" descr="hab"/>
          <p:cNvPicPr/>
          <p:nvPr/>
        </p:nvPicPr>
        <p:blipFill>
          <a:blip r:embed="rId1"/>
          <a:stretch/>
        </p:blipFill>
        <p:spPr>
          <a:xfrm>
            <a:off x="2282760" y="2362320"/>
            <a:ext cx="5262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Хидрохемијске</a:t>
            </a:r>
            <a:r>
              <a:rPr b="1" lang="en-GB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r>
              <a:rPr b="1" lang="en-GB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26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хемијске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мбину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армаколошк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овањ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ређених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тер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ерал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л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дат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емијск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тери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мпор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терич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љ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гље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окси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р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)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изички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мички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овање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в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тери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у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дражајн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ж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;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стој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сорпц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роз кож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рист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ан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роматичн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мпорн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донск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љендиоксидн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..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хемијске</a:t>
            </a:r>
            <a:r>
              <a:rPr b="1" lang="en-GB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гљенокиселе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мењу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35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5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четк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ечењ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ниж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26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5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ра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ем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ме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вих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вету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ровањ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д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л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азен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рој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пликац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дној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риј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ичн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нос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5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ж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ем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ак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црвен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бог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овањ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хурић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морецептор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бог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птерећењ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ВС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вету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мор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2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т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електрич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куп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Галванск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ада (300-500 м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Четвороћеличн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уп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447920" y="0"/>
            <a:ext cx="520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5410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4290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409"/>
                </a:solidFill>
                <a:latin typeface="Arial"/>
              </a:rPr>
              <a:t>САУ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343400" cy="50464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114800" y="685440"/>
            <a:ext cx="5029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вишекратна</a:t>
            </a:r>
            <a:r>
              <a:rPr b="1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ваздушна</a:t>
            </a:r>
            <a:r>
              <a:rPr b="1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упк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топлом(110 С)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увом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ваздуху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леди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ладн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општ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упк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поливање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ли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туш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вишекратн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примен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двофазног</a:t>
            </a:r>
            <a:r>
              <a:rPr b="1" lang="en-US" sz="24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надражај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гревањем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лађењем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оже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тел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неколико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наврат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борави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по 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5-20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м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игрометар,туширање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ТЕРАПИЈСК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ОЗМЕТИЧ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ПОРТСК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409"/>
                </a:solidFill>
                <a:latin typeface="Arial"/>
              </a:rPr>
              <a:t>Физиолошко</a:t>
            </a:r>
            <a:r>
              <a:rPr b="1" lang="sr-Latn-CS" sz="36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409"/>
                </a:solidFill>
                <a:latin typeface="Arial"/>
              </a:rPr>
              <a:t>деловање саун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Терморегулациони</a:t>
            </a:r>
            <a:r>
              <a:rPr b="1" lang="en-US" sz="2200" spc="-1" strike="noStrike" u="sng">
                <a:solidFill>
                  <a:srgbClr val="000409"/>
                </a:solidFill>
                <a:uFillTx/>
                <a:latin typeface="Arial"/>
              </a:rPr>
              <a:t> </a:t>
            </a: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механизми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Темп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.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кож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раст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о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40º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С уз</a:t>
            </a:r>
            <a:r>
              <a:rPr b="1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интензивно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знојење(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400-800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о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2000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мл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зноја)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т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тел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износ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39º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С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.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КВ</a:t>
            </a:r>
            <a:r>
              <a:rPr b="1" lang="en-US" sz="2200" spc="-1" strike="noStrike" u="sng">
                <a:solidFill>
                  <a:srgbClr val="000409"/>
                </a:solidFill>
                <a:uFillTx/>
                <a:latin typeface="Arial"/>
              </a:rPr>
              <a:t> </a:t>
            </a: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систе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ад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ијастолног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ритиск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убрзањ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улс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З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врем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хлађењ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олаз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о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смањењ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улс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овећањ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ијастолног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ритиск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о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чему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треб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водит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рачун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код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хипертензиј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409"/>
                </a:solidFill>
                <a:latin typeface="Arial"/>
              </a:rPr>
              <a:t>Вазомоторни</a:t>
            </a:r>
            <a:r>
              <a:rPr b="1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409"/>
                </a:solidFill>
                <a:latin typeface="Arial"/>
              </a:rPr>
              <a:t>тренинг</a:t>
            </a:r>
            <a:r>
              <a:rPr b="1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409"/>
                </a:solidFill>
                <a:latin typeface="Arial"/>
              </a:rPr>
              <a:t>кож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кој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овод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о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регулациј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ритиск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улса     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смањењ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фреквенциј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дисања</a:t>
            </a:r>
            <a:r>
              <a:rPr b="1" lang="en-US" sz="2200" spc="-1" strike="noStrike" u="sng">
                <a:solidFill>
                  <a:srgbClr val="000409"/>
                </a:solidFill>
                <a:uFillTx/>
                <a:latin typeface="Arial"/>
              </a:rPr>
              <a:t>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Бубрег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омаж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регулацију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функциј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бубрег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Метаболиза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Кожа</a:t>
            </a:r>
            <a:r>
              <a:rPr b="1" lang="sr-Latn-CS" sz="2200" spc="-1" strike="noStrike" u="sng">
                <a:solidFill>
                  <a:srgbClr val="000409"/>
                </a:solidFill>
                <a:uFillTx/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акне,сува кожа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Имунитет: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овећањ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отпорност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рем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инфекцијам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Састав крви,мишићна снага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2" descr="C:\Users\jo\Downloads\rimskokupatilo.jpg"/>
          <p:cNvPicPr/>
          <p:nvPr/>
        </p:nvPicPr>
        <p:blipFill>
          <a:blip r:embed="rId1"/>
          <a:srcRect l="9996" t="0" r="9996" b="0"/>
          <a:stretch/>
        </p:blipFill>
        <p:spPr>
          <a:xfrm>
            <a:off x="1066680" y="612720"/>
            <a:ext cx="708660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ндикације</a:t>
            </a:r>
            <a:r>
              <a:rPr b="1" lang="en-US" sz="40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 сауну</a:t>
            </a:r>
            <a:r>
              <a:rPr b="1" lang="en-US" sz="40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у</a:t>
            </a:r>
            <a:r>
              <a:rPr b="1" lang="en-US" sz="40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мање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вазомотор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реакциј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оже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рашћивање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ра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псоријаз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ронич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паљењск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дегенератив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реуматичк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обољењ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ронич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паљењ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респираторног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ангиопатије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(I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II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тадијум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)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ронич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паљењск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неспецифич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гинеколошк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обољењ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лаке Х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Контраиндикације</a:t>
            </a:r>
            <a:r>
              <a:rPr b="1" lang="en-US" sz="36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36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з</a:t>
            </a:r>
            <a:r>
              <a:rPr b="1" lang="en-US" sz="36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sr-CS" sz="36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 саун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Малигни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тумор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Акутни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паљењски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процес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Фебрилн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тањ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Менструација,трудноћ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Оклузивн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артеријск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обољењ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Туберкулозн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обољењ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Декомпензациј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рц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плућа, бубрега и јетре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зражен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ипертиреоз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рварење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клоност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рварењ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имске терме су биле центар јавног живот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сторије у Римским термам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Просторије за комуникациј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Одељење за остављање гардероб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poditerium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загревана просторија на улазу у купати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epidarium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просторија са загрејаним ваздух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ldarium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купатила са врућом водом ( вруће купањ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rigidarijum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купатила са хладном водом ( хладно купањ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udatorium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просторија за презнојавањ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саун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Unctorium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одељење за масаж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atrina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тоал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efurnium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ложишт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2" descr="C:\Users\jo\Downloads\terme1.jpg"/>
          <p:cNvPicPr/>
          <p:nvPr/>
        </p:nvPicPr>
        <p:blipFill>
          <a:blip r:embed="rId1"/>
          <a:srcRect l="0" t="6763" r="0" b="6763"/>
          <a:stretch/>
        </p:blipFill>
        <p:spPr>
          <a:xfrm>
            <a:off x="1066680" y="457200"/>
            <a:ext cx="7010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изичко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-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емијс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плотни</a:t>
            </a:r>
            <a:r>
              <a:rPr b="1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пацит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личин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плот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треб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р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тер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гре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</a:rPr>
              <a:t>термопровољивос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оличин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оплот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ој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пролаз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роз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1 cm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²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/se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мањ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чврстих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ел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бољ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других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ечност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гасов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(3 x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алкохол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, 28 x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ваздух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</a:rPr>
              <a:t>хидросолубилнос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способност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растварањ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супстанц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вод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8:14:35Z</dcterms:created>
  <dc:creator>PAKOM</dc:creator>
  <dc:description/>
  <dc:language>en-US</dc:language>
  <cp:lastModifiedBy>Info</cp:lastModifiedBy>
  <dcterms:modified xsi:type="dcterms:W3CDTF">2020-01-03T10:17:59Z</dcterms:modified>
  <cp:revision>40</cp:revision>
  <dc:subject/>
  <dc:title>HIDROTERAPIJA</dc:title>
</cp:coreProperties>
</file>