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3CF-3420-4EFF-994B-9A425C75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9A9-477B-433B-832E-55D15929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BA8-C379-43BF-B32B-EC5D2A72F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D5E5-0105-4D46-9E2A-A5D18FBE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133-E839-4981-91A7-789B054B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371-A585-44E5-B0E5-A1E0DED8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FAA-08C8-4A1A-9CA7-BF7210F0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547-3FA2-4AAF-B401-9F50D9F8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2C7-72AC-4F80-874E-68039724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B76-8CAB-4A35-A54F-CE70C196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925-0771-49F4-92D6-1A727DEC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1B2F-BBA6-4F17-812F-859D4F7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4B02-855C-4EF5-8FF1-92177C0FE0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285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900" spc="-1" strike="noStrike">
                <a:solidFill>
                  <a:srgbClr val="000000"/>
                </a:solidFill>
                <a:latin typeface="Calibri"/>
                <a:ea typeface="Times New Roman"/>
              </a:rPr>
              <a:t>Balneoterapija</a:t>
            </a:r>
            <a:br>
              <a:rPr sz="7900"/>
            </a:b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Doc. Dr T. Lu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2.начин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Општа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купка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ш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ерал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рск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ич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но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1:3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:1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г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ус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т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лу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= 39º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ушир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мор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0-4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 летњим месецима поред налазишта,сунча 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Механизам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дејств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топлотн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механичк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0000"/>
                </a:solidFill>
                <a:latin typeface="Calibri"/>
              </a:rPr>
              <a:t>хемијско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ff0000"/>
                </a:solidFill>
                <a:latin typeface="Calibri"/>
              </a:rPr>
              <a:t>дејст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хемијск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умпор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одоник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угљен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диоксид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радон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јон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биолошки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активн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ензим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хормон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д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елаз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ж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спољавајућ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фармакодинамск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ејств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Terapijsko dejstvo peloi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zodilatacija, resorpcija patoloških produkata, antiinflamatorno dejst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nalget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pazmolitič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 за пелоид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уматолошка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трауматска стања: контрактуре,успорено стварање калуса,мека тк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уролошка:неруалгије,неуритиси,повреде не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инеколошка:аднекситис,параметритис,стерилитет,постоперативни инфилтр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нтраиндикације за пело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тни и хронични запаљењски у погорша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нокардија,арит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ражена артериосклероза,изражена Х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рикозиетти,облитерирајућа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нхијална астма,бронхијекта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пертире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хек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Mineralne v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ekoviti rastvori minerala u obliku soli,baza,kiselina ili gas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sobine:temperatur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adioaktivnos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gasn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astav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kalnost/kiselos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ineralizacija i organoleptička svojstva (ukus,miris i bo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поновање и припрема пело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 вађења из налазишта чувају се у плитким базенима,покривени морском или минералном водом (5 до 10 ц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 смеју да се исуше,ни изложе дејству ваздуха (гвожђе прелази у неколоидни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ћени 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мосферских падавина и загађ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аје или се одузима 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енеришу се у налазишт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Mineralne vo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sebna vrsta podzemnih v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koje imaju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iše od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gr/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mineralnih sastojaka ili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gasova, ili  j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temperatura vode takva da se mo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koristiti u terapijske svrh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maju iskustvom utvrdjeno lekovito dejst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a geološkom poreklu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uvenilne, vadozne i fosi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Juvenilne  vode</a:t>
            </a:r>
            <a:r>
              <a:rPr b="0" lang="en-GB" sz="40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 iz usijane magm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koja se u unutrašnjosti zemlje nalazi pod velikim pritiskom. Ako se taj pritisak usled tektonskih poremecaja smanji, pregrejana vodena para sadrzana u magmi izlazi iz nje i prodire u slojeve blize zemljinoj površini. Putem se hladi i kondenzuje, a otapanjem minerala iz raznih zemljinih  slojeva, s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mineralizaciju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ako mineralizovana voda izbija na površinu zemlj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a mestima najmanjeg otpora u obliku izv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likuju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nstantnim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emijskim sastavom, t i kapacitetom izviran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adozne v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vršinske vo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akon obilnih padavina površinske vode poniru u zemlju, bivaju obog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ne mineralima i gasovima , da bi se ponovo pojavile na površini kao mineralne v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enjanju tokom godine sastav, t i kapacitete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DEFINICI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alneoterapija je korišċenje prirodnih lekovitih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 u profilak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e i terapijske svrhe/peloida,mineralnih voda,gasova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ioklimatologija 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učava uticaj klime,metero-kosmičkih faktora,cikadijalnih bioritmova na zdravlje i funkcije čove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limatski faktori deluju 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ivno ili nadražajno;imunomodulatorno i metabolič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osilne (dubinske) v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olaze iz velikih dubin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 sastavu stabilnije i toplije. Nastaju iz padavina koje prodiru u duboke pešcane i šlju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vi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slojev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ju zatv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ene, jer se se na te slojeve talo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epropusni slojev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pir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b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o bušenjem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mogu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obnavljati, te im je trajanje ogran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no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sto prate nalazišta petrole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(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etrolejs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e);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ad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jod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odne vod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Karakteristike mineralnih vo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ineralizaci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onski sasta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emperatur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20 stepen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ad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j gasov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CO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, radon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H vrednos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adioaktivnost i d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ineralizacij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licina rastvorenih cvrstih materija koje se u vodama nalaze u obliku jona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disociranih molekula i kolo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dredjuje tako što se voda greje na 180ºC pri cemu se dobija suvi ostatak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mineraln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-ako sadrze više od 1gr/l i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oligomineraln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-ako sadrze manje od 1gr/l suvog ostat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Jonski sastav mineralnih vod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d 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atjon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ajcešce srecemo: Na, Mg, Ca, a od anjona HCO³, Cl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lementi u tragu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i biološki vrlo aktivni, su: J, Br, Fe, S, As, Cu,  Co i d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ajznacajniji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gasov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su: CO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 i radon. Pored njih srecu se još i metan, etan, helijum,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Podela prema milimolarnoj koncentraci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4200" y="1981080"/>
            <a:ext cx="82440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 osnovu milimolarnih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Symbol"/>
                <a:ea typeface="Symbol"/>
                <a:hlinkClick r:id="rId1" action="ppaction://hlinksldjump"/>
              </a:rPr>
              <a:t>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koncentracija jona moguce je porediti mineralne vode sa osmotskim pritiskom krvi. Prema takvoj analizi mineralne vode se dele na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hipotone, izotone i hipert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zotone vode treba da imaju ukupnu milimolarnu koncentraciju oko 300, a što odgovara rastvoru od 9 gr NaCl / 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Symbol"/>
                <a:ea typeface="Symbol"/>
                <a:hlinkClick r:id="rId2" action="ppaction://hlinksldjump"/>
              </a:rPr>
              <a:t>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ol= molekularna tezina (MG), atomska tezina u grami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Temperatura mineralnih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a tempe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ri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ladn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  t niža od 20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topl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v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š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od  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alne vod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h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potermn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3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0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homeotermn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4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hiperterm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znad 4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ranjska banja, Jošanicka banja, Kuršumlijska i d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Radioaktivnost mineralnih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480" y="1214280"/>
            <a:ext cx="81723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 mineralnim vodama najcešce ima radona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ji je emanacija radijuma. Poluzivot mu je 3,82 dana, emituje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zrake. Alf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raci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maju lekovita svojstv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endokrine, 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n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srž). Koriste se samo na izvori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voljno na perifernu cirkulaciju, rad srca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iurezu, lučenje m.kiseline; deluju sedativno i analgetsk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išk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banj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Sokobanj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,Vlas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ance YU"/>
                <a:ea typeface="Times New Roman"/>
              </a:rPr>
              <a:t>Klasifikacija mineralnih voda</a:t>
            </a:r>
            <a:r>
              <a:rPr b="1" lang="sr-Latn-CS" sz="4000" spc="-1" strike="noStrike">
                <a:solidFill>
                  <a:srgbClr val="000000"/>
                </a:solidFill>
                <a:latin typeface="France YU"/>
                <a:ea typeface="Times New Roman"/>
              </a:rPr>
              <a:t> po Kventinu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560" y="1600200"/>
            <a:ext cx="8458200" cy="495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2f2f2"/>
                </a:solidFill>
                <a:latin typeface="France YU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2f2f2"/>
                </a:solidFill>
                <a:latin typeface="France YU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Vode koje sadze više od 1 gr/l vode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čvrst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e supstanc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,a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k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arakter odredjuju joni koji su zastupljeni sa više od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20 milival.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hidrokarbonatne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NaCl i KCl su alkalne i zemnoalkalne),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sulfatne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Na sulfatne i Mg sulfatn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su salinične i gorke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) i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hloridne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slane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Mineralne vode koje sadrze male koli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č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ine mineralnih sastojaka, koji su znacajno biološki aktivni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tzv mikroelementi)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.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Ubrajamo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sulf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atn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najmanj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1mg/l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S;Na salinične i Mg gorke)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, jodne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najmanje 1mg/l rastvorenog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J)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gvozdjevit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10 mg/l rastvorenog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Fe)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arsensk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najmanje 0,7 mg As/l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Klasifikacija mineralnih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ineralne vode koje sadrze rastvorene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gasove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ugljenokisele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ajmanje  1 gr/l rastvorenog CO2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ujanovacka banja),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sulfidne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adrze male kolicine H²S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i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radonske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Oligomineralne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kratotermne-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"divlje vode" sadrze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anje od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1 g/l rastvorene supstance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, a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 je viša od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2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0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C° (Prolom banja).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ošto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nemaju mnogo soli mogu da se piju kao diuretsko sredstvo 2-3 litr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na d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ance YU"/>
                <a:ea typeface="Times New Roman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Nacin upotrebe mineralnih vo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ijenje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grgoljenje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upanjem,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aginalnim ispiranj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haliranjem ( jodno bromne, radioaktivne, slane i hidrokarbonatne vo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Balneoklimatolog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9720"/>
            <a:ext cx="86868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Medicinska fiziološk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uticaj nadmorske visine,GD i GŠ,sezona,vetrova na zdravlje lju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Med meteoropatologi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uticaj vlažnosti, T, p,ciklona,jo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u vazduhu na pojavu bol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Med klimatoterapij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isin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api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helio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i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fitoter,aero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Proučavanje bioritmova: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irkardijalni,godišnji,sezonski i dnevni ritm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Dejstva mineralnih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oboljenja perifernih ks, DS, diu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-oboljenja perifernih ks i srca, psorij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adioaktivne-k.srž, diuretski, sedativ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ulfatne-peristaltika želuca i cre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idrokarbonatne- DS i diuret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loridne-DS, sekretolitički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manjuju diure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mzigradska b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Slika 3"/>
          <p:cNvPicPr/>
          <p:nvPr/>
        </p:nvPicPr>
        <p:blipFill>
          <a:blip r:embed="rId1"/>
          <a:stretch/>
        </p:blipFill>
        <p:spPr>
          <a:xfrm>
            <a:off x="685800" y="1785960"/>
            <a:ext cx="6386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elters Mlade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najlepsa slika selters"/>
          <p:cNvPicPr/>
          <p:nvPr/>
        </p:nvPicPr>
        <p:blipFill>
          <a:blip r:embed="rId1"/>
          <a:stretch/>
        </p:blipFill>
        <p:spPr>
          <a:xfrm>
            <a:off x="1138320" y="1623960"/>
            <a:ext cx="686736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Banje Srb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071360"/>
            <a:ext cx="8029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elenci (Zrenjan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Banja Kanjiža (Kikin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rdnik (Sremska Mitrov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oviljača (Šab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Bukovička banja (Arandjelov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Gamzigrad (Zaječ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latar (Nova Varoš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latibor (Čajetina):štitna,anemija,gojaz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vanjica (Čača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uršumlijska:reuma,kožne,sterilitet,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Banje Srb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07136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Novi Paz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Vrnjačka Banja: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Mataruška banja:sterilit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Ribarska banja (Kruševa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Sokobanja: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Niška banja: reumatska i KV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Sijerinska banja (Medvedja):kožne bole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Bujanova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Vranjska ban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Selters (Beogr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Prolom:holelitijaza,kalkuloza,gastritis,psorijaza,ek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konski uslo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neke indikacije otpusna lista odgovaraju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ustanove,ne starija od mesec dana koja potv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je postojanje oboljenja,povrede ili oper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MSE i stepen odu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osti /Barthel,ASIA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dnom god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izuzev AMI,nekih preloma i CVI nako noper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 jednom godišnje do 18 god života,a 1 u 7 godina nakon punolets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Indikacije za banjsko leče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57160"/>
            <a:ext cx="84582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Neurološka oboljen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posledice poliomijelitisa,MS,mijastenija gravis,  DCO, hemiplegija,paraplegija,kvadriplegija,pleksus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Oboljenja srca i krvnih sudov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Gamzigrad, N Varoš, Niš, Selters):AIM,by pass,mane do 18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Reumatološka obolj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Skolioz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o 16 god,Cobb više od 20 step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uxatio coxae congenita,tortikolis,pectusi nakon operacije;Mb Perthers,Mb Pa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tanja posle PTC i PT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Oboljenja respiratornog sistem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Arandjelovac, Ivanjica, Sokobanja, Niška):HOPB,astma,bronhiektazije,cistična fib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Povrede i oboljenja L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Endokrinološka oboljenj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Arandjelovac, Zlatibor,Vrnjačka):tireotoksikoza,ekstremna gojaznost,tip 1 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Onkološka rehabilitacija de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ISTORIJ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Sent Moritzu je 1907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godine pronadjena kapt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sa izdubljenim deblima drvet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z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bronzan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dob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 l000 god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rela vode su  smatrana sedištem nekog b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nstva, a kupanje u vrelu i pijenje te vode obrednim verskim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om. U znak zahv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nosti prinosili su se darovi b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nst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zvorim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 nadjen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m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vi, koplja,metalni nova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ISTORIJ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49976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rimskoj kapt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 u Vrnj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j banji 1924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god nadjeno je oko 200 komada rimskog novca od Agripe do Konstantina Velikog (37-34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vrelima su postavljene   zavetne pl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, sa natpisim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je su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lužile  d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bolest s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veka pr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j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na pl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cu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 zatim u vrel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Beogradu kod crkve Ru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ca, koja ima hladno mineralno vrelo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 drveću su ostavljan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krpic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okviru paganskih običaja (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 pre dve decenij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Africi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pisani  slicni obica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Peloidoterap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imena lekovitih činilaca t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irodni i veštački; organski,neorganski,mešov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rste: muljevi, sapropel, treset, pseudovulkanski (fango) i izvorski peloi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maju dve čvrste faze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stalni skelet i koloidni komplek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i jednu tečnu (peloidni rastv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imenjuju se u vidu aplikacija (lokalnih i opštih) i kupki;izuzev glave,vrata i predela s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О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Pelos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=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му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ОЛ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(таложењем изумрлих биљака и животињ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зе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уљ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рес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–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БИОЛИТИ (физичким процесима)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нерал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улкан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лова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апора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јства пело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ермичко деловањ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мањују бол и спазам,побољшавају прокрвљеност, метабол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Хемијско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деловање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:антизапаљењски (Р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еханичко деловање:на крвоток и лимфо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апликације увијањем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пелоидно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Parafango"/>
          <p:cNvPicPr/>
          <p:nvPr/>
        </p:nvPicPr>
        <p:blipFill>
          <a:blip r:embed="rId1"/>
          <a:stretch/>
        </p:blipFill>
        <p:spPr>
          <a:xfrm>
            <a:off x="0" y="857160"/>
            <a:ext cx="3332160" cy="325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Parafango aplikacija3"/>
          <p:cNvPicPr/>
          <p:nvPr/>
        </p:nvPicPr>
        <p:blipFill>
          <a:blip r:embed="rId2"/>
          <a:stretch/>
        </p:blipFill>
        <p:spPr>
          <a:xfrm>
            <a:off x="609480" y="4000680"/>
            <a:ext cx="3248280" cy="2857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880" y="914040"/>
            <a:ext cx="5105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1.1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Локалн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ол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б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олија и чаршав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лоју 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5-6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у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л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т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олесник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мот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2-45º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35-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нов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врш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уширање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з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;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буч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мар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ваки,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 други дан,2 па 1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1.2.Општ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о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тк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ер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ак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птерећу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рочит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В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Info</cp:lastModifiedBy>
  <dcterms:modified xsi:type="dcterms:W3CDTF">2019-12-05T12:02:47Z</dcterms:modified>
  <cp:revision>43</cp:revision>
  <dc:subject/>
  <dc:title>Balneoterapija </dc:title>
</cp:coreProperties>
</file>